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FF2-1F5B-4831-9E93-0BA264B2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A71-66B0-44F7-9804-DAA3AF18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9CA-8E71-496C-A1EA-C25CD995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DE4-2F7B-4029-B5B3-70398093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5A8-1A51-47C0-BD4F-E7688D19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6E7-FD19-4E18-8A5F-90D4377A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A78D-557D-43F6-9C6F-E35AE144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766-8B84-4621-9507-F51A8365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162-234C-4C6B-94BD-352432C7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57C-1961-490F-B69F-E03936D3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BB3-B4E7-445B-8BCB-2EED385B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84E-F926-4085-9755-7F912C4B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823B-5540-427D-A912-9F64C6B7C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разработал учитель химии и биологии МКОУ Лебединская СОШ Гюлахмедов Мирзабег Гюл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ежская область Богучарский р-он с. Лебе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Василий</cp:lastModifiedBy>
  <dcterms:modified xsi:type="dcterms:W3CDTF">2012-01-25T14:45:10Z</dcterms:modified>
  <cp:revision>9</cp:revision>
  <dc:subject/>
  <dc:title>                    </dc:title>
</cp:coreProperties>
</file>